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E86-BF39-42B5-89EB-F7445241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EB7-8A72-44AE-A881-7AE44E66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CDD-4B3C-4587-83C2-D30B8297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7DB-6FE3-4683-B78B-43BBEA54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5663-8C86-4108-8F56-9C6796EA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7E78-6238-447F-808C-A0966CE4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2BBD-0F7D-4353-B1D2-AB7A2C71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01FB-8DE6-4F97-AB88-21FC0E02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FC2A-F220-4FC9-BB49-C8F20A00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777D-8789-4025-8594-75622BF2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7D60-81CF-4BCF-8F67-ACF6A5B3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E4E-5A49-441A-AB27-6E3250AD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A471-544E-470B-A080-499AF397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F3E3-3C9C-49AF-B0A8-F69B1E54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6F27-D685-4C96-8877-A53B64EA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1A18-86D4-49D3-A7E4-949B4E2A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AF26-1CD3-45CE-A9F6-6E79BB92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F14-D722-4F15-A487-EC2DBE4C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4D4-155B-4EAD-9017-7ED56C07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618-A992-4406-B3D7-BF18F225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D1A-E07E-4203-906B-0BCE8821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623-C77C-4D00-83C1-41C0B0CE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9DD-8A88-4B70-9D00-3CBE0225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A74-7BA7-4E9F-8036-06F9B71C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D98B-9380-40C5-8012-CB4CB7C63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F266-79E6-4031-AE10-7FCA746F8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ПРИРОДНИ 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ЗАБЕЛЕЖИТЕЛНОСТИ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  В БЪЛГАРИЯ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ПОВОТО ЕЗЕРО  В 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ПИРИ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АРИ ДЪРВЕТА В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БЪЛГАР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2781000"/>
            <a:ext cx="4427640" cy="31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ъбът край с.Гранит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й-старото дърво 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с.Възрастта му 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близително 16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од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932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АЙКУШЕВАТА МУРА В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ПИРИ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3927600" cy="27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ъзрастта й е над 1300 годи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24360" y="1557360"/>
            <a:ext cx="4500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ДКИ ЖИВОТИНСКИ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ВИДОВ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3068640"/>
            <a:ext cx="4432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УФЛО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53290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РИС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ВИДР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ЕЛОГЛАВ ЛЕШОЯ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1380960"/>
            <a:ext cx="7417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РЕН  ЩЪРКЕ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832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ЪДРОГЛАВ  ПЕЛИК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9138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 тези красоти ви запозн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етя Костадин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У “Хан Исперих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град Нови паза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bg-BG" sz="4800" spc="-1" strike="noStrike">
                <a:solidFill>
                  <a:srgbClr val="ffffff"/>
                </a:solidFill>
                <a:latin typeface="Arial"/>
              </a:rPr>
              <a:t>ОПОЗНАЙ РОДИНАТА , ЗА ДА Я ОБИКНЕШ!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bg-BG" sz="4800" spc="-1" strike="noStrike">
                <a:solidFill>
                  <a:srgbClr val="ffffff"/>
                </a:solidFill>
                <a:latin typeface="Arial"/>
              </a:rPr>
              <a:t>Алеко  Константин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КЪРСКИЯТ  ПРОЛО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УДНИТЕ  МОСТОВ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ЕЛОГРАДЧИШКИТЕ СКА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ЕЩЕРАТА  ЛЕДЕН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890640"/>
            <a:ext cx="91440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ЕЩЕРАТА  ДЯВОЛСКОТО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ГЪР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264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ЕЩЕРАТА  ДУХЛА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624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СЕДЕМТЕ РИЛСКИ ЕЗЕР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6:26:40Z</dcterms:created>
  <dc:creator>PETQ &amp; KRASI</dc:creator>
  <dc:description/>
  <dc:language>en-US</dc:language>
  <cp:lastModifiedBy>PETQ &amp; KRASI</cp:lastModifiedBy>
  <dcterms:modified xsi:type="dcterms:W3CDTF">2009-01-20T18:51:35Z</dcterms:modified>
  <cp:revision>3</cp:revision>
  <dc:subject/>
  <dc:title>         ПРИРОДНИ    ЗАБЕЛЕЖИТЕЛНОСТИ           В БЪЛГАРИЯ</dc:title>
</cp:coreProperties>
</file>